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2993-3E40-48AC-967E-F886D1F741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7BB-BE76-4E86-81BB-0BCF9CFF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BCB-FFCC-4589-85B6-50F72C97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337-420E-4F00-A6D3-CFE9AAEC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F81-B2DE-4E78-A789-FBB2884B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F3FF-CAE5-4D11-8880-1AEC010C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1043-067F-46AC-A901-F4302C04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9B1-5035-42B9-81B9-8DD31540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3565-A52C-4636-B163-E26EA3FD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FF33-F169-48A9-BCC9-DB3F97F7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AF95-6C42-40B1-89DE-AEFFD311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E3BD-D979-456A-B588-A2C1E9F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473-3C9D-481D-9614-9E8A218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E152-2D1F-4DDF-85CB-20A4751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D9E8-777A-45CD-9D8F-1D922F01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C51E-9ACF-43B6-9A18-88DDC9BA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3929-B916-422B-A57D-45BF349D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4ADE-D4A7-4AFE-BA9B-1EEC5F75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356-5D49-417F-8C65-0427E8B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386-17DD-4F4B-B20C-8807166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32D-DA1C-4576-A376-9F2F071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A64-A27F-46ED-AB9A-AA4074C2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75E-A637-4859-A90D-EEAD7AF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187-8EED-418A-B92E-D73B3FF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CF8-3E0F-475E-8E79-AD91777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5BDE-EF24-4821-A11D-7BF88CA757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C25-F6D8-4961-9E6E-78D551F215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33:21Z</dcterms:modified>
  <cp:revision>4</cp:revision>
  <dc:subject/>
  <dc:title>The 3 C’s</dc:title>
</cp:coreProperties>
</file>